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64F0-DBF1-49FA-A4E6-1A53E5C3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2D0A-C76D-4774-AA96-FEC584B4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E188-F6BD-4C8D-ABBF-822E01552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865D-F965-4A95-88CE-C513DA453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E4AA-7596-4BF2-8BF1-D79C811B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5A36-0AE3-4D4E-A603-AEDADAB4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4FF1-5F8F-4C43-9C1A-9081C0E3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37A4-9C99-4B95-84D0-AB8EE57D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4CBF-598C-4964-A20C-A4D6CCE0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C46C-C78C-4E13-AADA-3BCE0A8F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BED9-58F2-429A-B341-2A432230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E496-F476-4EAB-8EFD-BC656ED7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0A17-612F-479E-A6CE-F829323FA39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6400800" cy="20160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ساد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استفادة وحدود الاستفادة من النسب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608D-34A2-4A74-AACF-C85FF30D23AA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879480"/>
            <a:ext cx="7772760" cy="69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ثمرو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56000" y="2421000"/>
            <a:ext cx="3697200" cy="85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قرارات شراء أو بيع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ربحية والسيو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12000" y="3747960"/>
            <a:ext cx="273672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صيب السهم من الارباح المحققة (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EPS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صا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في الرب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د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2200" y="3718080"/>
            <a:ext cx="2521080" cy="20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عائد الحقيقي لل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بلغ الموز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قي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ة السوق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32000" y="3716280"/>
            <a:ext cx="2592360" cy="208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صيب السهم من التوز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وز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د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5084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53000" y="5084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55720" y="49705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F9AB-B21B-4252-8209-D454115F4243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809640"/>
            <a:ext cx="7772760" cy="78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دائنون والبنو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2514600"/>
            <a:ext cx="446544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مساعدة على منح الائتمان من عدم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3930480"/>
            <a:ext cx="7488360" cy="223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سب القروض الى حقوق المساهم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تداو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مب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ل دوران المخزو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ل دوران المدين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99FE-5E5A-4DF5-8198-BAF83E289B37}" type="slidenum">
              <a:t>3</a:t>
            </a:fld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985680"/>
            <a:ext cx="7772760" cy="716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دارة المنشأ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2416320"/>
            <a:ext cx="7775280" cy="367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نصيب السهم من الأرب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 العائد على حقوق الملك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قروض الى حقوق المساه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رأس ال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اص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C414-D81E-43A2-BF2D-83CD8ED994CB}" type="slidenum">
              <a:t>4</a:t>
            </a:fld>
          </a:p>
        </p:txBody>
      </p:sp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1275840"/>
            <a:ext cx="7772760" cy="715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احص الضريب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900520"/>
            <a:ext cx="8001000" cy="2328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سترشاد بالنسب المالية للمساعدة على الاطمئنان الى صحة النتائ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ف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ص الرواتب ومقارنتها باجمالي الدخل ومقارنتها مع السنة الساب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0DF6-31D3-493E-8B01-C52827835E87}" type="slidenum">
              <a:t>5</a:t>
            </a:fld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1956960"/>
            <a:ext cx="7772760" cy="740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راجع الخارج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3429000"/>
            <a:ext cx="78483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اعدة في ابداء الرأ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A85F-5FC9-4525-8161-A496646E194F}" type="slidenum">
              <a:t>6</a:t>
            </a:fld>
          </a:p>
        </p:txBody>
      </p:sp>
    </p:spTree>
  </p:cSld>
  <p:transition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1915920"/>
            <a:ext cx="7772760" cy="72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خيرا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500280"/>
            <a:ext cx="777528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استفادة من النسب المالية في الت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ؤ بنجاح أو ف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79BB-D459-413C-B443-DA1E32C94DDD}" type="slidenum">
              <a:t>7</a:t>
            </a:fld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907920"/>
            <a:ext cx="7772400" cy="1081080"/>
          </a:xfrm>
          <a:prstGeom prst="downArrowCallout">
            <a:avLst>
              <a:gd name="adj1" fmla="val -177836"/>
              <a:gd name="adj2" fmla="val 179737"/>
              <a:gd name="adj3" fmla="val 16667"/>
              <a:gd name="adj4" fmla="val 6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دود الاستفادة من التحليل المال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2205000"/>
            <a:ext cx="7775280" cy="374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سياسات والطرق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بيئ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حجم المشرو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صناع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طبيعة النسب المالية وتركيب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التوقي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محلل المالي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مستفيدين من التحليل الما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7BDB-2E42-4A25-878A-A9E82DF4F77E}" type="slidenum">
              <a:t>8</a:t>
            </a:fld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1:57:27Z</dcterms:modified>
  <cp:revision>28</cp:revision>
  <dc:subject/>
  <dc:title>التحليل المالي والائتماني</dc:title>
</cp:coreProperties>
</file>